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92024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B92D79-1A96-42D2-8F24-9DAA4A659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88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512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4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82688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10512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864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05720" y="11353680"/>
            <a:ext cx="1371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1135368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-5384880"/>
            <a:ext cx="6845400" cy="15062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-6172200"/>
            <a:ext cx="6845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73720" y="-6111720"/>
            <a:ext cx="6654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0600" y="-5883120"/>
            <a:ext cx="6715080" cy="127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portrait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ra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slides in landscape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