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463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EA7682-FCD4-445F-9240-1D65266EE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41598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333512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333512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87320"/>
            <a:ext cx="9131400" cy="1049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31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3320" y="60480"/>
            <a:ext cx="89089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" y="903240"/>
            <a:ext cx="8943840" cy="9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landscape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scap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panels in portrait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